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3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ormance Classes Revis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ro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roval_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ssemb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ssembly_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ssembly_design_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ssembly_design_structural_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ssembly_design_structural_connection_exter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ssembly_design_structural_connection_inter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ssembly_design_structural_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ssembly_design_structural_me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mbly_design_structural_member_cub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ssembly_design_structural_member_li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mbly_design_structural_member_plan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mbly_with_sh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sembly_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mbly_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oundary_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oundary_condition_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oundary_condition_ske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oundary_condition_spring_li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undary_condition_spring_non_li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undary_condition_war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sign_cri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_criteria_docu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sign_p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sign_res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sign_result_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sign_result_me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ffective_buckling_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lement_cur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ment_curve_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lement_curve_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lement_eccen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ment_m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ment_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ment_point_grounded_dam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ment_point_grounded_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ment_point_stationary_m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ment_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ment_surface_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ment_surface_pl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ment_surface_profi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ment_surface_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ment_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ment_volume_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ment_volume_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lement_with_mat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lement_node_conne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unctional_r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nctional_role_docu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id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id_inters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id_intersection_re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id_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id_off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id_of_buil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id_of_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id_of_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id_orthog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id_rad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id_ske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group_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oup_assignment_actio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oup_assignment_appro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group_of_analysis_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group_of_design_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oup_of_generic_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oup_of_physical_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oup_of_project_definition_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oup_of_structural_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oup_u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em_defined_trans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em_pro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em_property_assig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restate the role of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llect (now more informed) comment on the scope of the proposed D&gt;M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n opportunity consider deeper issues related to CC selection and u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tem_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item_reference_libr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item_reference_propriet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tem_ref_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item_ref_source_libr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item_ref_source_propriet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item_ref_source_docu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oad_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ad_case_docu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oad_combination_occur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oad_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oad_element_concen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oad_element_distribu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oad_element_distributed_cur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oad_element_distributed_curve_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ad_element_distributed_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ad_element_distributed_surface_uni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ad_element_distributed_surface_vary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oad_element_the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oad_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aded_pro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loading_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ed_assemb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cated_p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at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terial_anisotrop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terial_constitu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material_isotrop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terial_orthotrop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terial_representation_i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terial_elast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har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mass_dens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str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thermal_expa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tough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art_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art_deri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art_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art_prism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art_prismatic_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art_prismatic_complex_tap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art_prismatic_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art_prismatic_simple_camb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art_prismatic_simple_cambered_absolu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art_prismatic_simple_cambered_rel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art_prismatic_simple_castel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art_prismatic_simple_cu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_she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_sheet_bou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_sheet_bounded_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_sheet_bounded_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_sheet_profi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hysical_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_action_accid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_action_perma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_action_seism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_action_var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_action_variable_long_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_action_variable_short_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_action_variable_trans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ction_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action_dis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ction_dynam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action_equi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action_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ction_velo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lease_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lease_spring_li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ease_spring_non_li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ease_war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ional_re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terial_re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pe_re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pe_representation_with_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presentation_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_uncertainty_assigned_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lobal_unit_assigned_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property_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property_context_dimens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property_context_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property_context_st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property_context_st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property_context_temp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metric_representation_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eometric_representation_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stra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straint_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straint_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traint_war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an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centre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cha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cir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circle_hol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comp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deri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edge_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i_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i_type_asymmet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i_type_r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rectan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rectangle_hol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t_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pe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perties_asymmet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ction_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action_dis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ction_dynam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action_equi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action_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ction_velo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lease_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lease_spring_li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ease_spring_non_li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ease_war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ional_re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terial_re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pe_re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pe_representation_with_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presentation_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_uncertainty_assigned_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lobal_unit_assigned_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property_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property_context_dimens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property_context_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property_context_st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property_context_st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property_context_temp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metric_representation_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eometric_representation_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stra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straint_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straint_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traint_war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an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centre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cha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cir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circle_hol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comp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deri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edge_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i_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i_type_asymmet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i_type_r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rectan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rectangle_hol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t_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pe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perties_asymmet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lease_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lease_spring_li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ease_spring_non_li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ease_war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ional_re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terial_re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pe_re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pe_representation_with_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 &gt; M CC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5029200"/>
            <a:ext cx="289548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3000" y="5105520"/>
            <a:ext cx="263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5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3962520"/>
            <a:ext cx="3352680" cy="2133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40480" y="403848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5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971800"/>
            <a:ext cx="3809880" cy="3352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8040" y="3048120"/>
            <a:ext cx="263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5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1981080"/>
            <a:ext cx="4114800" cy="44960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1800" y="205740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5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presentation_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_uncertainty_assigned_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lobal_unit_assigned_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property_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property_context_dimens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property_context_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property_context_st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property_context_st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_property_context_temp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metric_representation_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eometric_representation_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stra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straint_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straint_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traint_war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an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centre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cha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cir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circle_hol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comp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deri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edge_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i_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i_type_asymmet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file_i_type_r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rectan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rectangle_hol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file_t_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tion_prope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_properties_asymmet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tur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ly re-define “CC504” D&gt;M as (say) four cumulative CCs or CC combin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es and 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c dir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ing business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generations of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/ Complex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5486400"/>
            <a:ext cx="5410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666880" y="1828800"/>
            <a:ext cx="0" cy="3657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1400" y="568008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omplexity of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7000" y="2286000"/>
            <a:ext cx="16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4648320"/>
            <a:ext cx="857160" cy="40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191120"/>
            <a:ext cx="993600" cy="939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733920"/>
            <a:ext cx="1128960" cy="1477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3352680"/>
            <a:ext cx="1295280" cy="1981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78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nalysis_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alysis_method_docu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alysis_method_dynam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alysis_method_pseudo_dynam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nalysis_method_st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nalysis_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nalysis_model_2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nalysis_model_3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alysis_model_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alysis_model_loc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lysis_model_m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lysis_model_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alysis_res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alysis_results_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lysis_results_set_ba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alysis_results_set_comb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alysis_results_set_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lysis_results_set_redistribu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nalysis_result_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nalysis_result_element_cur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alysis_result_element_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alysis_result_element_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alysis_result_element_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alysis_result_element_surface_str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alysis_result_element_surface_tr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alysis_result_element_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alysis_result_element_volume_stress_ten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nalysis_result_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ded from 504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pplied_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ied_load_dynam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ied_load_dynamic_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ied_load_dynamic_velo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pplied_load_st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pplied_load_static_dis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pplied_load_static_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ied_load_static_pres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Steven E. Hamburg</cp:lastModifiedBy>
  <dcterms:modified xsi:type="dcterms:W3CDTF">1999-06-25T21:33:25Z</dcterms:modified>
  <cp:revision>43</cp:revision>
  <dc:subject/>
  <dc:title>AISC CIS/2  Workshop #I</dc:title>
</cp:coreProperties>
</file>